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10985-A242-488A-A48A-A563E9141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A0BDE-6FBA-43CD-9799-A61DA35A8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000AE-C5F8-4C46-BC01-1E123B26B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8B2C4-C056-4AA6-AAF9-934FB3EB6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FD8CDE-65F1-49D8-AB02-02B8A5C70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FABD60-49EF-4C6C-83C8-403CE5622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995A7D-8A4E-49F9-9035-2890169C0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B40398-578E-478F-953C-12A86D9F0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1C0600-7988-45A2-9173-83E6F48B3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BBCA51-4448-4CEE-B284-BC4D30BE7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03B509-67D6-479D-B1DC-E7DFD2203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6CA2D-E0BA-4525-A2F6-2460140E3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1E1D2C-DBA7-4951-837A-14FE6D953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F6AB38-904A-4003-ACF5-5B55DDCEB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47D4F4-069B-4901-A01E-E260E5748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0864C7-283A-4979-AE0D-659A78390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136179-A176-4744-9C89-04A0BF7C3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969A0-BC48-45B8-B6E7-CF82EED13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115E8-DA4A-41CC-9080-8BD06C824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D27AB-A645-4D89-B45B-B92A70F1E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27AFC-9060-4971-AAF7-D212FAC04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299F5-73A9-44D7-8986-0678941B1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42164-7AB8-4B09-A510-8C23772B3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764AF-D067-4B82-8C7E-910F0CC55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675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fab"/>
              </a:gs>
              <a:gs pos="100000">
                <a:srgbClr val="6699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9b5b8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eabae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97451-1112-4BF8-9B0E-6C1717EB6657}" type="slidenum">
              <a:rPr b="0" lang="ca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675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fab"/>
              </a:gs>
              <a:gs pos="100000">
                <a:srgbClr val="6699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9b5b8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eabae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FFFAB-C6A7-4644-B444-6ABD2DE6D8A7}" type="slidenum">
              <a:rPr b="0" lang="ca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 rot="784200">
            <a:off x="336600" y="1996560"/>
            <a:ext cx="8408880" cy="198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10319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HEM FET MERENGA!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80000"/>
                </a:solidFill>
                <a:latin typeface="Arial"/>
              </a:rPr>
              <a:t>Que es la merenga?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0000"/>
                </a:solidFill>
                <a:latin typeface="Arial"/>
              </a:rPr>
              <a:t>Dols fet amb clares d’ou batudes i barrejades amb sucre fi, i cuit al for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55280" y="304920"/>
            <a:ext cx="785484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80000"/>
                </a:solidFill>
                <a:latin typeface="Arial"/>
              </a:rPr>
              <a:t>Els ingredients que servim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3360" y="1773000"/>
            <a:ext cx="5216400" cy="129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80000"/>
                </a:solidFill>
                <a:latin typeface="Arial"/>
              </a:rPr>
              <a:t>- La clara del ou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0000"/>
                </a:solidFill>
                <a:latin typeface="Arial"/>
              </a:rPr>
              <a:t>       </a:t>
            </a:r>
            <a:r>
              <a:rPr b="0" lang="en-US" sz="3600" spc="-1" strike="noStrike">
                <a:solidFill>
                  <a:srgbClr val="f80000"/>
                </a:solidFill>
                <a:latin typeface="Arial"/>
              </a:rPr>
              <a:t>- Sucr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80000"/>
                </a:solidFill>
                <a:latin typeface="Arial"/>
              </a:rPr>
              <a:t>Eines que hem fet servir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26840"/>
            <a:ext cx="4836960" cy="13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80000"/>
                </a:solidFill>
                <a:latin typeface="Arial"/>
              </a:rPr>
              <a:t>- Plat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80000"/>
                </a:solidFill>
                <a:latin typeface="Arial"/>
              </a:rPr>
              <a:t>- Forquilla o forquille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4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80000"/>
                </a:solidFill>
                <a:latin typeface="Arial"/>
              </a:rPr>
              <a:t>Com fem la merenga?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0000"/>
                </a:solidFill>
                <a:latin typeface="Arial"/>
              </a:rPr>
              <a:t>Posem en un plat les clares i el sucre i batem molt ràpid i molta estona fins que es posi consiste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802560" cy="51210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 txBox="1"/>
          <p:nvPr/>
        </p:nvSpPr>
        <p:spPr>
          <a:xfrm>
            <a:off x="1476360" y="260280"/>
            <a:ext cx="655164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62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Comic Sans MS"/>
              </a:rPr>
              <a:t>Tots hem fet merenga!!!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1T08:21:58Z</dcterms:created>
  <dc:creator>argo</dc:creator>
  <dc:description/>
  <dc:language>en-US</dc:language>
  <cp:lastModifiedBy>argo</cp:lastModifiedBy>
  <dcterms:modified xsi:type="dcterms:W3CDTF">2009-06-12T07:17:13Z</dcterms:modified>
  <cp:revision>4</cp:revision>
  <dc:subject/>
  <dc:title>HEM FET MERENGA</dc:title>
</cp:coreProperties>
</file>